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C3C-454C-42B0-A19C-727C25EE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2CE-B0D1-4286-81AD-B1796FB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607-10D1-472F-9800-0B1F41FF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E0B-CB7F-40FE-BA3A-CBF70681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03C9-B386-48A7-9FDB-68AD00A6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314D-BDCB-4319-95F9-6B07FEA0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4884-685A-431E-BBF5-B514EE19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CA9E-B772-4AAF-8A7A-2248936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239-9510-4D55-94AC-F611E5C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BF31-5DE7-4043-AEA0-3677186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E480-6732-4036-A633-4928718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FE4-8808-4491-AAB5-AAFCD7A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CA47-C580-4DDF-920C-008652E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408E-E692-41A0-8547-5796CF0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1C90-7E0D-4542-9687-F2DD1A37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C765-FE71-429E-AE5B-6A1677DC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BA4D-03FA-45B8-9B28-CA5707A4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5CE-F6D9-41AD-838C-4F091DEE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57C-134B-4190-BB0C-7AA59F31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673-FEAD-44DE-A0BC-73478533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5DE-A46B-4607-96AA-87506570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F90-EE7A-4D56-B898-461DEA8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998-DD42-4066-9504-A03875B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3F1-C142-4108-8C25-982160C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55CB-7AE7-4A96-9902-6AC0D66B9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BBDD-8A97-4F9D-BAF9-7470F521E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5.1: Combining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rithmetic operations o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composition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Sum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+g)(x)=f(x)+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Difference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-g)(x)=f(x)-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Product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g)(x)= f(x)*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Quotient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/g)(x)= [f(x)]/[g(x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Composition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g)(x)= f(g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What is a one-to-one function?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one-to-one function f(a) cannot equal f(b) if a does not equal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76 #13-36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00:48Z</dcterms:created>
  <dc:creator>nuhs</dc:creator>
  <dc:description/>
  <dc:language>en-US</dc:language>
  <cp:lastModifiedBy>nuhs</cp:lastModifiedBy>
  <dcterms:modified xsi:type="dcterms:W3CDTF">2008-02-25T21:36:16Z</dcterms:modified>
  <cp:revision>4</cp:revision>
  <dc:subject/>
  <dc:title>5.1 and 5.2</dc:title>
</cp:coreProperties>
</file>